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D6B-F27D-4314-BCF3-085D337C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210-7486-4E76-9C8C-96EA02DE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C9E-94C2-4C9F-A5C2-C865A477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009-314A-464A-8ACB-7057283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0BE-8EFC-4E1C-ACC5-DEEABD0A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0A1-B90E-4C3E-9203-20490C6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F2D-D0F9-46AC-B506-E34CACE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756-9B14-41A1-9426-083C7E2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AF6-E6EE-47D4-B935-773391C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3D5-7EBA-477A-A35E-3F5D642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5DC-E614-4B26-AF81-102A593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9EB-E694-4F81-968E-B61F839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322E-D891-4C79-896C-C7970525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291960"/>
            <a:ext cx="868680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Gothic"/>
              </a:rPr>
              <a:t>COLD MOUNTAIN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3048120"/>
            <a:ext cx="71629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uthor: Charles Fraz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6019920"/>
            <a:ext cx="839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Meghan, Marie, Will, and Ev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1:05:39Z</dcterms:created>
  <dc:creator>User</dc:creator>
  <dc:description/>
  <dc:language>en-US</dc:language>
  <cp:lastModifiedBy>User</cp:lastModifiedBy>
  <dcterms:modified xsi:type="dcterms:W3CDTF">2009-06-01T21:10:21Z</dcterms:modified>
  <cp:revision>2</cp:revision>
  <dc:subject/>
  <dc:title>Slide 1</dc:title>
</cp:coreProperties>
</file>